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32A-AB65-404B-8951-6F14F8FA5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9961-E1F9-4C54-8745-D0E62A45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8227-6FBB-480A-8162-880A2B44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D6C-3C11-4A24-B0A7-4D6523890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198-FD8F-4AB2-9F17-C8CCD8E4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6F4-16C2-4C20-8027-4A4DA94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BB5-4E57-47DF-8484-48D1503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343-434C-4D0F-A96D-F770B6C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24FC-5A86-47EA-ACEB-6E5AE01B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D66B-F322-465D-BBC8-8AE00AA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D09-82FC-4147-A31F-2EA8C92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5A9-D2B9-4FF0-80BE-5A387929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826-EBBF-4052-8858-CA1CBDE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A0FB-343E-4FF8-A4EA-04EE2F0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33E-ED16-415D-96D6-1CD204A2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0CE-DBAE-4C87-88E0-4E54D6B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2AA5-8A39-4BFF-9BB0-CCCD0259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8B91-B650-48A8-89FA-283EE9D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749-7110-4D21-A5E2-4A0B097A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3A3-FEE6-4300-95CA-BE53D9E9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DAD-0698-4B5F-B829-F602F371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42A-0A26-4841-99D4-22F5DB6B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1EF-359A-4DFF-801E-395F68F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DCE-139F-4160-9617-6898613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027-4E75-4925-B873-9D2D774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C21-0E40-4BE6-B6FD-40C038E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639-54AC-48B1-A81B-EDC7B24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440-46DB-43EC-9746-A8ADE24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B210-511F-438F-BFD3-384DAF25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55C0-8255-4AE5-92B7-28CDF340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1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309680"/>
          <a:ext cx="8077320" cy="55944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aînes de télévision: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F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6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2 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V5MOND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l est le programme le plus intéress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quelle heure passent les programmes éducatif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1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528948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2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Les programmes commencent plus tôt et ils sont plus culturels et plus récréatif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A quelle heure est diffuser la 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premièr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emiss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Quel est le plus regard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è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ha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îne de télévis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Quell este le plus regardè film sur le chaîne respective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1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di</cp:lastModifiedBy>
  <dcterms:modified xsi:type="dcterms:W3CDTF">2011-10-27T16:51:40Z</dcterms:modified>
  <cp:revision>21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